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75B5-B9F5-4D3F-B170-1F86D477E9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SCRAMBLE THE VOC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NDS-SP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TENCE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TNER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TNER TALK:  Suggestion:  Write more adjectives on the screen to continue talking (la plus riche, la plus populaire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TNER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NGUE TW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«NO » YOUR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« NO » YOUR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CONTR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CONTR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TEGO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 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A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ENN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GLISH-F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TENCE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LLOUTS/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LLOUTS/SPE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E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BF1-BBFB-40E6-A2E0-9895757A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78C-4950-4C38-A821-96FF415D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E24-B6EE-41BD-83CB-923C5C6F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9E2-0BE8-4380-A83A-CE039476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F0B-4D7F-4DD5-896F-87B17156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AF0-A600-45F6-8F1E-00441D4F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743-B47B-4B18-B6BF-68A90314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541-C778-47C7-8C4F-4BAB49AF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94E-E7B5-40D0-90C0-4827467E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357-7E44-47F5-9898-2E09D248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401-33E1-4637-9CA0-5C761074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F80-A50C-4EB3-9F37-7A0F5633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D450-9ACE-43B2-9AAE-25242B684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culty.molloy.edu/smayo/44-marie-antoinette.jpeg&amp;imgrefurl=http://faculty.molloy.edu/smayo/PHI%2520325H%2520Image%2520page.htm&amp;h=684&amp;w=578&amp;sz=32&amp;hl=en&amp;start=2&amp;tbnid=5Sb2RFgfP_J3jM:&amp;tbnh=139&amp;tbnw=117&amp;prev=/images%3Fq%3Dmarie%2Bantoinette%26svnum%3D10%26hl%3Den%26lr%3D%26sa%3D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cd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77012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14600" y="609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ne Sans OS ITC TT-Bold"/>
              </a:rPr>
              <a:t>UNSCRAMBLE THE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6668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819520"/>
            <a:ext cx="3733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9718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31240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276720"/>
            <a:ext cx="3733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66688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4290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6668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5146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P U E 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3526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T O T E S 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1911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H E A P A C 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9528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R A P P U L A E 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7913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 T E N O B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770120" cy="1828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24280" y="24382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200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0384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48006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PLU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5638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N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rite all the words that you know that have the “wa” sound (spelled {oi}) in Fren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 Quo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048120"/>
            <a:ext cx="73915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048120"/>
            <a:ext cx="8001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oi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i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roi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roir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roit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roient   pourqu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oi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oi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voit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oient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i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ire  Voilà   Vo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ouvoi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ouloi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i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irée  Marie-Antoin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enoit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rancoi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roi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quoi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i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roid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oisson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oir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ev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ingt-trois   trente-trois quarante-trois.... soix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voir  au revoi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noi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hoisi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recev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etit poi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oi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oisson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oiture  toi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90000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900000" cy="9302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z ces choses ou ces person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 Story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 rigolo/ “Le Monde du Nem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tman/ fort / Tarz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rt Simpson/ sympa/ Charlie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’argent/ important/ l’amitié (friend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s filles / indépendantes/ les garç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llary Duff/ jolie/ Paris Hi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 France/ ??/ Les Etats-U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00000" cy="9302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lez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à votre partenaire e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z cette famil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à votre famil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Use “stress” pronou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048120" y="21337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8600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 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me 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4724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inimarc 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lez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à votre partenaire :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 est la plus joli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828800"/>
            <a:ext cx="2628720" cy="312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876920" y="1905120"/>
            <a:ext cx="2052360" cy="3047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219320" y="50292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ie Antonet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ie Antonett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57200" y="457200"/>
            <a:ext cx="90000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04960" y="2590920"/>
            <a:ext cx="3767040" cy="4267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181480" y="1762200"/>
            <a:ext cx="2882880" cy="509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2057400"/>
            <a:ext cx="1447920" cy="10688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OS ITC TT-Bold"/>
              </a:rPr>
              <a:t>Ma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057400"/>
            <a:ext cx="1143000" cy="642600"/>
          </a:xfrm>
          <a:prstGeom prst="rect">
            <a:avLst/>
          </a:prstGeom>
          <a:solidFill>
            <a:srgbClr val="00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OS ITC TT-Bold"/>
              </a:rPr>
              <a:t>Lu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1752480"/>
            <a:ext cx="12189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OS ITC TT-Bold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182880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OS ITC TT-Bold"/>
              </a:rPr>
              <a:t>Lili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3429000"/>
            <a:ext cx="1219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OS ITC TT-Bold"/>
              </a:rPr>
              <a:t>Z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638680"/>
            <a:ext cx="1066680" cy="1068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OS ITC TT-Bold"/>
              </a:rPr>
              <a:t>M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5181480"/>
            <a:ext cx="1600200" cy="642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OS ITC TT-Bold"/>
              </a:rPr>
              <a:t>E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429000" y="1371600"/>
            <a:ext cx="114300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371600"/>
            <a:ext cx="1447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0"/>
            <a:ext cx="70866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Humana Serif ITC TT-Medium"/>
              </a:rPr>
              <a:t>IMAGINE QUE TU 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Humana Serif ITC TT-Medium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Humana Serif ITC TT-Medium"/>
              </a:rPr>
              <a:t>PRESENTE TA FAMILLE</a:t>
            </a:r>
            <a:r>
              <a:rPr b="0" lang="en-US" sz="3600" spc="-1" strike="noStrike">
                <a:solidFill>
                  <a:srgbClr val="333399"/>
                </a:solidFill>
                <a:latin typeface="Humana Serif ITC TT-Medium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33560" cy="1066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95280" y="380880"/>
            <a:ext cx="2057400" cy="131040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C’est m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C’est m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Ce sont 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609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45720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5335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es soixante-sept chaussures chics sont sale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4290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es sandales de Cécile sont souvent sur son sac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7323" r="16341" b="0"/>
          <a:stretch/>
        </p:blipFill>
        <p:spPr>
          <a:xfrm>
            <a:off x="0" y="1752480"/>
            <a:ext cx="2057400" cy="1627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553080" y="4527720"/>
            <a:ext cx="218916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3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” your grammar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lle est la dif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ér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robe est plus long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robe est la plus long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124080" y="4495680"/>
            <a:ext cx="1524240" cy="2057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0036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cd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” your grammar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lle est la formation 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émin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09680" y="1447920"/>
            <a:ext cx="4267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élég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habil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bla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o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14479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2895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 Sans MS"/>
              </a:rPr>
              <a:t>`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4267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 Sans MS"/>
              </a:rPr>
              <a:t>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4952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 Sans MS"/>
              </a:rPr>
              <a:t>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5715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895480" y="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CONTR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566640"/>
            <a:ext cx="28958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éric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énerg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rç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i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éch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66640"/>
            <a:ext cx="35812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pet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ranç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ti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atig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noir / b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triste / fa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so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ntelli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sympat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5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666880" y="38088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CONTR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143000"/>
            <a:ext cx="28958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SimSu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ac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fess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uv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nn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liq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1143000"/>
            <a:ext cx="3581280" cy="57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te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diffic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étudi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42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3049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4572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609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57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바탕"/>
              </a:rPr>
              <a:t>JANV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457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바탕"/>
              </a:rPr>
              <a:t>JUI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80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바탕"/>
              </a:rPr>
              <a:t>AV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371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mond (W1)"/>
              </a:rPr>
              <a:t>ano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057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mond (W1)"/>
              </a:rPr>
              <a:t>bo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1295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mond (W1)"/>
              </a:rPr>
              <a:t>blou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1143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mond (W1)"/>
              </a:rPr>
              <a:t>maillot de b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19051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mond (W1)"/>
              </a:rPr>
              <a:t>un impermé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mond (W1)"/>
              </a:rPr>
              <a:t>sand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27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mond (W1)"/>
              </a:rPr>
              <a:t>paraplu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mond (W1)"/>
              </a:rPr>
              <a:t>échar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25909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mond (W1)"/>
              </a:rPr>
              <a:t>lunettes du sol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4419720"/>
            <a:ext cx="8077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illot de bai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lous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o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n imperméable       bonnet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andale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écharp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raplu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unettes du sol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280" y="304920"/>
            <a:ext cx="4267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 1.  Je s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 2.  Il 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 3.  Elle e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 4.  Qui 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 5.  Tu 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 6.  Où 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304920"/>
            <a:ext cx="43434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317760" y="5410080"/>
            <a:ext cx="12542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1244520"/>
            <a:ext cx="4343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 1.  Je rega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 2.  J’éc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 3.  Je m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 4.  Je déte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 5.  Je trava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 6.  Je rig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 7.  J’ ar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1208160"/>
            <a:ext cx="41911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 I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devo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c des cop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fil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cre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McDona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254240" cy="1295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094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NISSEZ LES PHR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304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52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Tu as utilisé lequel pour faire les cheveux bouclé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685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e fer à fr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685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e sèche-chev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295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Duquel on a besoin pour bien dorm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Un orei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905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Un rev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2438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Lesquels est-ce que les femmes mettent autour l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s, le cou, et les oreil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Les bijo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3429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Les pelli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3886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 Lequel ne couvrira que la tete quand il ple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4419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l’impermé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4495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la paraplu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5029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 Lequel sera plus lou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Le ba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5715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Le rince-bo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1969" r="1744" b="3917"/>
          <a:stretch/>
        </p:blipFill>
        <p:spPr>
          <a:xfrm>
            <a:off x="2819520" y="3200400"/>
            <a:ext cx="3047760" cy="3657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66760" y="0"/>
            <a:ext cx="861048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li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en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n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t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égois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éch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is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3809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Stone Sans ITC TT-Bold"/>
              </a:rPr>
              <a:t>j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600200"/>
            <a:ext cx="71625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MS Mincho"/>
              </a:rPr>
              <a:t>LUCIE E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MS Mincho"/>
              </a:rPr>
              <a:t>UNE </a:t>
            </a:r>
            <a:r>
              <a:rPr b="1" lang="en-US" sz="4000" spc="-1" strike="noStrike">
                <a:solidFill>
                  <a:srgbClr val="333399"/>
                </a:solidFill>
                <a:latin typeface="MS Mincho"/>
              </a:rPr>
              <a:t>…</a:t>
            </a:r>
            <a:r>
              <a:rPr b="1" lang="en-US" sz="3600" spc="-1" strike="noStrike">
                <a:solidFill>
                  <a:srgbClr val="336600"/>
                </a:solidFill>
                <a:latin typeface="MS Mincho"/>
              </a:rPr>
              <a:t> FILLE</a:t>
            </a:r>
            <a:r>
              <a:rPr b="0" lang="en-US" sz="3600" spc="-1" strike="noStrike">
                <a:solidFill>
                  <a:srgbClr val="336600"/>
                </a:solidFill>
                <a:latin typeface="MS Mincho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MS Mincho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34290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Stone Sans ITC TT-Bold"/>
              </a:rPr>
              <a:t>con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62720" y="4191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Stone Sans ITC TT-Bold"/>
              </a:rPr>
              <a:t>bl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42670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Stone Sans ITC TT-Bold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487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Stone Sans ITC TT-Bold"/>
              </a:rPr>
              <a:t>bo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2920" y="4572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Stone Sans ITC TT-Bold"/>
              </a:rPr>
              <a:t>égoi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62720" y="5257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Stone Sans ITC TT-Bold"/>
              </a:rPr>
              <a:t>méch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410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Stone Sans ITC TT-Bold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67480" y="5791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Stone Sans ITC TT-Bold"/>
              </a:rPr>
              <a:t>tri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6019920"/>
            <a:ext cx="811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43080" y="333360"/>
            <a:ext cx="84582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parl ______ beaucoup en cl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us aim_____ danser avec les garc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ille blonde habit____ rue 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étudi_____ pour l’examen lun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déjeun______dans la cant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tu écout_____ comme musiq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ne mang_____ pas en cl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dant les vacances, tu nag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228600"/>
            <a:ext cx="11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914400"/>
            <a:ext cx="11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73680" y="1676520"/>
            <a:ext cx="11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2362320"/>
            <a:ext cx="11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3108240"/>
            <a:ext cx="11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3886200"/>
            <a:ext cx="11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90920" y="5105520"/>
            <a:ext cx="11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5867280"/>
            <a:ext cx="11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209680" y="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Bodoni SvtyTwo OS ITC TT-Bold"/>
              </a:rPr>
              <a:t>Fa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009800"/>
            <a:ext cx="87631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l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9144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Stone Sans ITC TT-Bold"/>
              </a:rPr>
              <a:t>fa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22096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Stone Sans ITC TT-Bold"/>
              </a:rPr>
              <a:t>fa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42900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Stone Sans ITC TT-Bold"/>
              </a:rPr>
              <a:t>fa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47242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Stone Sans ITC TT-Bold"/>
              </a:rPr>
              <a:t>fa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9436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Stone Sans ITC TT-Bold"/>
              </a:rPr>
              <a:t>fa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11430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Stone Sans ITC TT-Bold"/>
              </a:rPr>
              <a:t>fai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2209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Stone Sans ITC TT-Bold"/>
              </a:rPr>
              <a:t>fai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34290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Stone Sans ITC TT-Bold"/>
              </a:rPr>
              <a:t>fo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47242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Stone Sans ITC TT-Bold"/>
              </a:rPr>
              <a:t>fo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5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14400" y="228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Bradley Hand ITC TT-Bold"/>
              </a:rPr>
              <a:t>Ecrivez les phrases en francais</a:t>
            </a:r>
            <a:r>
              <a:rPr b="0" lang="en-US" sz="2400" spc="-1" strike="noStrike">
                <a:solidFill>
                  <a:srgbClr val="3333cc"/>
                </a:solidFill>
                <a:latin typeface="Bradley Hand ITC TT-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11430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1.  Why do you hate chemis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600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Pourquoi est-ce que tu détestes la chim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2.  We study when there is a qu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3429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3. I am confused because it’s a little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4648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4.  How many pads of paper are in the backpac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2280" y="5791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5.  She’s having lunch at Mark’s house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0" y="2743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Nous étudions quand il y a un inte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4038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Je suis confus(e) parce que c’est un peu diffic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76520" y="5257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ombien de bloc-notes sont dans le sac à 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00200" y="6172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Elle déjeune chez Mark mainten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8120" y="304920"/>
            <a:ext cx="28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naITC TT-Bold"/>
              </a:rPr>
              <a:t>ANA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ne Sans OS ITC TT-Bold"/>
              </a:rPr>
              <a:t>1.  casquette   :   tête    ::   ______________     :   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4495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ne Sans OS ITC TT-Bold"/>
              </a:rPr>
              <a:t>5. à la mode  : ___________   ::     habillé  :   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895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ne Sans OS ITC TT-Bold"/>
              </a:rPr>
              <a:t>3 . pyjama   :  dormir    ::     ____________       :   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733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ne Sans OS ITC TT-Bold"/>
              </a:rPr>
              <a:t>4 . _______   : longues  ::     large    :   ser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209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ne Sans OS ITC TT-Bold"/>
              </a:rPr>
              <a:t>2.   jupe  :  fille            ::     cravate     :  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ne Sans OS ITC TT-Bold"/>
              </a:rPr>
              <a:t>g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 Sans OS ITC TT-Bold"/>
              </a:rPr>
              <a:t>garç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743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ne Sans OS ITC TT-Bold"/>
              </a:rPr>
              <a:t>maillot de b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35812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tone Sans OS ITC TT-Bold"/>
              </a:rPr>
              <a:t>cou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4419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ne Sans OS ITC TT-Bold"/>
              </a:rPr>
              <a:t>démod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3880" cy="1295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1055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one Sans OS ITC TT-Bold"/>
              </a:rPr>
              <a:t>6. janvier  : ___________   ::     juillet  :    maillot de b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7913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7.  Maintenant, vous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écrivez  __________: ___________ :: ________ : 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ano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304920"/>
            <a:ext cx="54864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80880"/>
            <a:ext cx="54864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 rot="19261800">
            <a:off x="380880" y="380520"/>
            <a:ext cx="1924200" cy="121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3733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Unicode MS"/>
              </a:rPr>
              <a:t>GARC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105" name=""/>
          <p:cNvSpPr txBox="1"/>
          <p:nvPr/>
        </p:nvSpPr>
        <p:spPr>
          <a:xfrm rot="1298400">
            <a:off x="6705720" y="457200"/>
            <a:ext cx="1923840" cy="121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3733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Unicode MS"/>
              </a:rPr>
              <a:t>FIL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486400"/>
            <a:ext cx="88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33412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blouson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  d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  <a:ea typeface="SimSun"/>
              </a:rPr>
              <a:t>ébardeur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com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montre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  sac 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  <a:ea typeface="SimSun"/>
              </a:rPr>
              <a:t>à main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cra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1040" y="205740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lou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90800" y="100980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ébard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3280" y="147168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com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69840" y="2500200"/>
            <a:ext cx="22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ac à 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38040" y="3276720"/>
            <a:ext cx="10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o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3800" y="259092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ra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884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1031760" cy="1066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533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Stone Sans OS ITC TT-Bold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457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3716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ana Serif ITC TT-Medium"/>
              </a:rPr>
              <a:t>I </a:t>
            </a:r>
            <a:r>
              <a:rPr b="1" lang="en-US" sz="3600" spc="-1" strike="noStrike">
                <a:solidFill>
                  <a:srgbClr val="333399"/>
                </a:solidFill>
                <a:latin typeface="Humana Serif ITC TT-Medium"/>
              </a:rPr>
              <a:t>go</a:t>
            </a:r>
            <a:r>
              <a:rPr b="1" lang="en-US" sz="3600" spc="-1" strike="noStrike">
                <a:solidFill>
                  <a:srgbClr val="000000"/>
                </a:solidFill>
                <a:latin typeface="Humana Serif ITC TT-Medium"/>
              </a:rPr>
              <a:t> to the st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438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ana Serif ITC TT-Medium"/>
              </a:rPr>
              <a:t>I  </a:t>
            </a:r>
            <a:r>
              <a:rPr b="1" lang="en-US" sz="3600" spc="-1" strike="noStrike">
                <a:solidFill>
                  <a:srgbClr val="333399"/>
                </a:solidFill>
                <a:latin typeface="Humana Serif ITC TT-Medium"/>
              </a:rPr>
              <a:t>buy</a:t>
            </a:r>
            <a:r>
              <a:rPr b="1" lang="en-US" sz="3600" spc="-1" strike="noStrike">
                <a:solidFill>
                  <a:srgbClr val="000000"/>
                </a:solidFill>
                <a:latin typeface="Humana Serif ITC TT-Medium"/>
              </a:rPr>
              <a:t> some coff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809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ana Serif ITC TT-Medium"/>
              </a:rPr>
              <a:t>I </a:t>
            </a:r>
            <a:r>
              <a:rPr b="1" lang="en-US" sz="3600" spc="-1" strike="noStrike">
                <a:solidFill>
                  <a:srgbClr val="333399"/>
                </a:solidFill>
                <a:latin typeface="Humana Serif ITC TT-Medium"/>
              </a:rPr>
              <a:t>return</a:t>
            </a:r>
            <a:r>
              <a:rPr b="1" lang="en-US" sz="3600" spc="-1" strike="noStrike">
                <a:solidFill>
                  <a:srgbClr val="000000"/>
                </a:solidFill>
                <a:latin typeface="Humana Serif ITC TT-Medium"/>
              </a:rPr>
              <a:t>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257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ana Serif ITC TT-Medium"/>
              </a:rPr>
              <a:t>I </a:t>
            </a:r>
            <a:r>
              <a:rPr b="1" lang="en-US" sz="3600" spc="-1" strike="noStrike">
                <a:solidFill>
                  <a:srgbClr val="333399"/>
                </a:solidFill>
                <a:latin typeface="Humana Serif ITC TT-Medium"/>
              </a:rPr>
              <a:t>make</a:t>
            </a:r>
            <a:r>
              <a:rPr b="1" lang="en-US" sz="3600" spc="-1" strike="noStrike">
                <a:solidFill>
                  <a:srgbClr val="000000"/>
                </a:solidFill>
                <a:latin typeface="Humana Serif ITC TT-Medium"/>
              </a:rPr>
              <a:t> s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15238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15238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1447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ana Serif ITC TT-Medium"/>
              </a:rPr>
              <a:t>I </a:t>
            </a:r>
            <a:r>
              <a:rPr b="1" lang="en-US" sz="3600" spc="-1" strike="noStrike">
                <a:solidFill>
                  <a:srgbClr val="333399"/>
                </a:solidFill>
                <a:latin typeface="Humana Serif ITC TT-Medium"/>
              </a:rPr>
              <a:t>went</a:t>
            </a:r>
            <a:r>
              <a:rPr b="1" lang="en-US" sz="3600" spc="-1" strike="noStrike">
                <a:solidFill>
                  <a:srgbClr val="000000"/>
                </a:solidFill>
                <a:latin typeface="Humana Serif ITC TT-Medium"/>
              </a:rPr>
              <a:t> to the st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3623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ana Serif ITC TT-Medium"/>
              </a:rPr>
              <a:t>I </a:t>
            </a:r>
            <a:r>
              <a:rPr b="1" lang="en-US" sz="3600" spc="-1" strike="noStrike">
                <a:solidFill>
                  <a:srgbClr val="333399"/>
                </a:solidFill>
                <a:latin typeface="Humana Serif ITC TT-Medium"/>
              </a:rPr>
              <a:t>bought</a:t>
            </a:r>
            <a:r>
              <a:rPr b="1" lang="en-US" sz="3600" spc="-1" strike="noStrike">
                <a:solidFill>
                  <a:srgbClr val="000000"/>
                </a:solidFill>
                <a:latin typeface="Humana Serif ITC TT-Medium"/>
              </a:rPr>
              <a:t> some coff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38098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ana Serif ITC TT-Medium"/>
              </a:rPr>
              <a:t>I </a:t>
            </a:r>
            <a:r>
              <a:rPr b="1" lang="en-US" sz="3600" spc="-1" strike="noStrike">
                <a:solidFill>
                  <a:srgbClr val="333399"/>
                </a:solidFill>
                <a:latin typeface="Humana Serif ITC TT-Medium"/>
              </a:rPr>
              <a:t>returned</a:t>
            </a:r>
            <a:r>
              <a:rPr b="1" lang="en-US" sz="3600" spc="-1" strike="noStrike">
                <a:solidFill>
                  <a:srgbClr val="000000"/>
                </a:solidFill>
                <a:latin typeface="Humana Serif ITC TT-Medium"/>
              </a:rPr>
              <a:t>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5257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ana Serif ITC TT-Medium"/>
              </a:rPr>
              <a:t>I </a:t>
            </a:r>
            <a:r>
              <a:rPr b="1" lang="en-US" sz="3600" spc="-1" strike="noStrike">
                <a:solidFill>
                  <a:srgbClr val="333399"/>
                </a:solidFill>
                <a:latin typeface="Humana Serif ITC TT-Medium"/>
              </a:rPr>
              <a:t>made</a:t>
            </a:r>
            <a:r>
              <a:rPr b="1" lang="en-US" sz="3600" spc="-1" strike="noStrike">
                <a:solidFill>
                  <a:srgbClr val="000000"/>
                </a:solidFill>
                <a:latin typeface="Humana Serif ITC TT-Medium"/>
              </a:rPr>
              <a:t> s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3808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’s the probl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543800" y="0"/>
            <a:ext cx="457200" cy="1219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447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1.  Je port un chemisier gr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590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2.  Mon sandales et n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657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J’ai un blue t-shi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724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4.  Ma jupe et tres serr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791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5.  Mes chaussures noir est joli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00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791320" y="1600200"/>
            <a:ext cx="2819160" cy="1828800"/>
          </a:xfrm>
          <a:prstGeom prst="wedgeRoundRectCallout">
            <a:avLst>
              <a:gd name="adj1" fmla="val -78208"/>
              <a:gd name="adj2" fmla="val 6284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0"/>
            <a:ext cx="5410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he say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rite 3 possibil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0040" cy="1447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47815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7010280" cy="6248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09680" y="762120"/>
            <a:ext cx="1828800" cy="1218960"/>
          </a:xfrm>
          <a:prstGeom prst="wedgeRoundRectCallout">
            <a:avLst>
              <a:gd name="adj1" fmla="val 51824"/>
              <a:gd name="adj2" fmla="val 8163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304920"/>
            <a:ext cx="1828800" cy="1218960"/>
          </a:xfrm>
          <a:prstGeom prst="wedgeRoundRectCallout">
            <a:avLst>
              <a:gd name="adj1" fmla="val -37064"/>
              <a:gd name="adj2" fmla="val 81638"/>
              <a:gd name="adj3" fmla="val 16667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191120"/>
            <a:ext cx="3505320" cy="155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inez la conversation: 4 phrases to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00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 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ésastre de mo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:  Pick two and describe their fashion disaster using the verb “mett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040" y="2057400"/>
            <a:ext cx="2257560" cy="434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715000" y="2973240"/>
            <a:ext cx="3200400" cy="2613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252108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228600"/>
            <a:ext cx="90000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4:17:12Z</dcterms:created>
  <dc:creator>SDW</dc:creator>
  <dc:description/>
  <dc:language>en-US</dc:language>
  <cp:lastModifiedBy>Deb</cp:lastModifiedBy>
  <dcterms:modified xsi:type="dcterms:W3CDTF">2010-11-05T17:14:58Z</dcterms:modified>
  <cp:revision>15</cp:revision>
  <dc:subject/>
  <dc:title>Slide 1</dc:title>
</cp:coreProperties>
</file>